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DE28-2AA3-435A-92FD-CE9AE5A8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9E9-F401-4E4A-ABF2-CA528C4F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AAE-EA02-4D84-B79B-3634C9D8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453-B12B-4529-BBE0-8B6669E7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EB7E-EEDF-47CB-B28A-2F68E70B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5684-7A28-4166-A067-375AD8B1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B364-5FDA-417F-B3C8-F4C6CC57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AF3-932C-4179-B23E-0E93BEEC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4777-DDD0-4BAC-8F1B-EF195A16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4377-95BC-4DA8-9230-952D908F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B874-96E4-4D85-9E55-DE552628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00CF-8833-483E-8D31-3E4D077F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53AD-411A-4CFD-8C7C-234D064D6E2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Masterclas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De marketing van biologische productie en retail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64008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Verwoorden &amp; Verwaarden m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898989"/>
                </a:solidFill>
                <a:latin typeface="Calibri"/>
              </a:rPr>
              <a:t>Balancerend Marketing bel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iologisch produceren is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werken aan meerwaar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p-stream tot down-stream in de ke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maginatieproces, doordenken, doorvoelen doorwil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mmunicatie is gericht op doorgronden van proces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emancipatie van de cons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alancerend Marketingbeleid vraagt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flectie op bestaande situ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sie op wat je beweeg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ten wat je te ontwikkelen he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antwoordelijk willen zijn voor persoonlijke ontwikk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ioriteiten stellen op basis van vis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ichtbaar zijn in communica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woorden en verwaa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t als resulta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De consumenten premi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alibri"/>
              </a:rPr>
              <a:t>in de prij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2"/>
          <p:cNvSpPr/>
          <p:nvPr/>
        </p:nvSpPr>
        <p:spPr>
          <a:xfrm>
            <a:off x="2819520" y="1447920"/>
            <a:ext cx="0" cy="3733560"/>
          </a:xfrm>
          <a:prstGeom prst="line">
            <a:avLst/>
          </a:prstGeom>
          <a:ln w="50760">
            <a:solidFill>
              <a:srgbClr val="00008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>
            <a:off x="4343400" y="3275280"/>
            <a:ext cx="3733920" cy="28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09480" y="2209680"/>
            <a:ext cx="19227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tact met wat je te doen staat, met je ideaal of vi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0504d"/>
                </a:solidFill>
                <a:latin typeface="Calibri"/>
              </a:rPr>
              <a:t>Openhar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0504d"/>
                </a:solidFill>
                <a:latin typeface="Calibri"/>
              </a:rPr>
              <a:t>Prior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0504d"/>
                </a:solidFill>
                <a:latin typeface="Calibri"/>
              </a:rPr>
              <a:t>A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800600" y="3657600"/>
            <a:ext cx="2233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tact met je omgeving, de 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ed181e"/>
                </a:solidFill>
                <a:latin typeface="Calibri"/>
              </a:rPr>
              <a:t>Aand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ed181e"/>
                </a:solidFill>
                <a:latin typeface="Calibri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ed181e"/>
                </a:solidFill>
                <a:latin typeface="Calibri"/>
              </a:rPr>
              <a:t>Inte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2590920" y="2590920"/>
            <a:ext cx="2133360" cy="1447560"/>
          </a:xfrm>
          <a:prstGeom prst="ellipse">
            <a:avLst/>
          </a:prstGeom>
          <a:noFill/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771640" y="30481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Balancerend Marketingbe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 rot="5400000">
            <a:off x="1676520" y="2054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0504d"/>
                </a:solidFill>
                <a:latin typeface="Calibri"/>
              </a:rPr>
              <a:t>V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876920" y="2590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ed181e"/>
                </a:solidFill>
                <a:latin typeface="Calibri"/>
              </a:rPr>
              <a:t>Ver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 flipV="1">
            <a:off x="3657600" y="885240"/>
            <a:ext cx="2524320" cy="2090160"/>
          </a:xfrm>
          <a:prstGeom prst="line">
            <a:avLst/>
          </a:prstGeom>
          <a:ln w="50760">
            <a:solidFill>
              <a:srgbClr val="3366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6477120" y="762120"/>
            <a:ext cx="19810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6876e7"/>
                </a:solidFill>
                <a:latin typeface="Calibri"/>
              </a:rPr>
              <a:t>Bewust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zorgt voor ba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1:10:56Z</dcterms:created>
  <dc:creator>Ruijte01</dc:creator>
  <dc:description/>
  <dc:language>en-US</dc:language>
  <cp:lastModifiedBy>schuri01</cp:lastModifiedBy>
  <dcterms:modified xsi:type="dcterms:W3CDTF">2011-07-11T11:13:31Z</dcterms:modified>
  <cp:revision>5</cp:revision>
  <dc:subject/>
  <dc:title>Masterclass Verwoorden &amp; Verwaarden</dc:title>
</cp:coreProperties>
</file>